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8A45-5A7A-43CA-99DE-C5E33902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48B-7626-485F-8DC5-6557FC2D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D65D-D20C-4522-BC00-0B8B7C51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48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7800" y="159876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48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7800" y="3947040"/>
            <a:ext cx="2377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A36-477C-43E4-9435-6C248BC6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EB9-3341-4F09-8BB2-77E8467E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1D8-3F03-42B9-ACAF-C32BF2D9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DD0F-DECB-4782-B84A-DA7BF0F0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B4D-C7B2-42FB-8988-DCD0C56C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7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BA9-DA44-4B4F-8945-A2ED46B3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7FA-6D4B-4762-A0E7-726625B5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7840" y="394704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734-E68C-499F-83B1-B487CE57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7840" y="1598760"/>
            <a:ext cx="3603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040"/>
            <a:ext cx="73850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D79-1C17-469B-BF03-755B303F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8040" cy="6868800"/>
            <a:chOff x="0" y="0"/>
            <a:chExt cx="9158040" cy="6868800"/>
          </a:xfrm>
        </p:grpSpPr>
        <p:sp>
          <p:nvSpPr>
            <p:cNvPr id="1" name=""/>
            <p:cNvSpPr/>
            <p:nvPr/>
          </p:nvSpPr>
          <p:spPr>
            <a:xfrm>
              <a:off x="0" y="6643800"/>
              <a:ext cx="807732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73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2040" y="0"/>
              <a:ext cx="1202760" cy="68565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7280" y="46800"/>
              <a:ext cx="1292760" cy="6259320"/>
              <a:chOff x="7847280" y="46800"/>
              <a:chExt cx="1292760" cy="625932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0080" y="46800"/>
                <a:ext cx="759960" cy="2221920"/>
                <a:chOff x="8380080" y="46800"/>
                <a:chExt cx="759960" cy="2221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631720" y="46800"/>
                  <a:ext cx="416520" cy="181800"/>
                  <a:chOff x="8631720" y="46800"/>
                  <a:chExt cx="416520" cy="18180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631720" y="46800"/>
                    <a:ext cx="416520" cy="181800"/>
                    <a:chOff x="8631720" y="46800"/>
                    <a:chExt cx="416520" cy="18180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73200" y="-94320"/>
                      <a:ext cx="13356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63480" y="13680"/>
                      <a:ext cx="92520" cy="33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1800" y="122760"/>
                    <a:ext cx="169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26760" y="72000"/>
                    <a:ext cx="2844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43760" y="72000"/>
                    <a:ext cx="428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930160" y="95400"/>
                    <a:ext cx="1584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200" bIns="432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38360" y="16344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48720" y="138960"/>
                    <a:ext cx="2520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0080" y="22788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5560" y="2278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7960" y="532440"/>
                  <a:ext cx="2948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2000" y="912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5560" y="8366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4280" y="121752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5560" y="159804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5560" y="1978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7280" y="1599480"/>
                <a:ext cx="826200" cy="4706640"/>
                <a:chOff x="7847280" y="1599480"/>
                <a:chExt cx="826200" cy="47066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0760" y="1599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7080" y="19040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0760" y="251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9000" y="274140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8840" y="28936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5160" y="319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9000" y="32745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3040" y="373140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2880" y="35031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2880" y="388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0760" y="41122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3040" y="22082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7280" y="43405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2880" y="48736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3040" y="525456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2880" y="540648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5160" y="56350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2880" y="6015960"/>
                  <a:ext cx="2944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7080" y="586332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2040" y="4907520"/>
              <a:ext cx="119016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7640" y="4856760"/>
              <a:ext cx="1218960" cy="199944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6480" y="2817000"/>
              <a:ext cx="1231560" cy="40359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08920" y="353736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2560" y="426600"/>
              <a:ext cx="914040" cy="50472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261720"/>
              <a:ext cx="909360" cy="30708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2320" y="0"/>
              <a:ext cx="57600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2320" y="1080"/>
              <a:ext cx="299880" cy="335232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4560" y="1080"/>
              <a:ext cx="88560" cy="68565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6720" y="6228000"/>
              <a:ext cx="116496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4680" y="3315600"/>
              <a:ext cx="6856560" cy="225360"/>
            </a:xfrm>
            <a:custGeom>
              <a:avLst/>
              <a:gdLst>
                <a:gd name="textAreaLeft" fmla="*/ 662400 w 6856560"/>
                <a:gd name="textAreaRight" fmla="*/ 6194160 w 685656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2040"/>
            <a:ext cx="1781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54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4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339DB5-8645-4624-9985-F196379AAF38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5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Divorce in Canada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26352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484360" y="2890800"/>
            <a:ext cx="2625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op 10 Ways To Protect Your Kid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alk to them about the separation (keep it simpl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 discree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main in their liv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eal with anger appropriatel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 a good paren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anage your mental health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Keep the people your children care about in their liv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op 10 Ways (Continued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ct like grown-ups (keep conflict away from kid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e thoughtful about your future love lif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ay your child suppor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(Source: Kelly, Joan. (2009) </a:t>
            </a:r>
            <a:r>
              <a:rPr b="0" i="1" lang="en-US" sz="1800" spc="-1" strike="noStrike">
                <a:solidFill>
                  <a:srgbClr val="2f1311"/>
                </a:solidFill>
                <a:latin typeface="Arial"/>
              </a:rPr>
              <a:t>“Dr. Joan Kelly’s Top Ten Ways To Protect Your Kid’s From the Fallout of a High Conflict Break-Up”. www.cbc.ca/documentaries/doczone/2009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5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38% of marriages end in divorc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f7d47d"/>
                </a:solidFill>
                <a:latin typeface="Arial"/>
              </a:rPr>
              <a:t> Peaked in 1987 and now stabl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7d47d"/>
                </a:solidFill>
                <a:latin typeface="Arial"/>
                <a:ea typeface="Arial"/>
              </a:rPr>
              <a:t>• There are regional differences (highest     in Quebec, lowest in Newfoundland/Labrador)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26352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54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7d47d"/>
                </a:solidFill>
                <a:latin typeface="Arial"/>
              </a:rPr>
              <a:t>Effects of Divorce on Children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26352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84360" y="2890800"/>
            <a:ext cx="2625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mportant Points to No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Experts disagree, so there are no definitive answers, but there are some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common thread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Children's self concepts are affected not so much by family structure but as by the </a:t>
            </a:r>
            <a:r>
              <a:rPr b="0" i="1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quality of familial relationships</a:t>
            </a:r>
            <a:r>
              <a:rPr b="0" i="1" lang="en-CA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Living in a 2 parent family with unresolved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tension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and alienating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conflict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can cause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greater stress and lower self-esteem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, than living 1 parent in a non-conflicting, supportive environmen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Wallerstein and Blakelee consider a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good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mother-child bond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to be the most significant factor as most beneficial to children's development, while parental co-operation and competence and the maintenance of ties with the non-custodial parent are also very important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ffects on Children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Children MAY experience the loss of their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identity 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as a member of an intact family, along with the loss of daily interaction with one of their parent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At school, they MAY suffer from the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stigma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of being from a "broken home", although this is lessening and terms are more sensitiv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There MAY be </a:t>
            </a:r>
            <a:r>
              <a:rPr b="0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economic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 challenges (a significant negative impact of divorce) therefore less educational opportunities (music lessons, camps, etc.), perhaps limiting access to things, limiting the ability to get basic their needs met and/or perhaps moving to a lower income are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ffects on Children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(cont'd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197000"/>
            <a:ext cx="73850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During and after divorce children typically feel </a:t>
            </a:r>
            <a:r>
              <a:rPr b="1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guilty</a:t>
            </a: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, </a:t>
            </a:r>
            <a:r>
              <a:rPr b="1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depressed</a:t>
            </a: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 and </a:t>
            </a:r>
            <a:r>
              <a:rPr b="1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anxious</a:t>
            </a: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 (Kelly, 1980)  "If I was only a good kid, then my parents wouldn't fight“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Girls raised without a father MAY begin premarital </a:t>
            </a:r>
            <a:r>
              <a:rPr b="1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sexual activity</a:t>
            </a: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 earlier and have more difficulty relating to men (Gerrard &amp; Kinnaird, 1986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 u="sng">
                <a:solidFill>
                  <a:srgbClr val="2f1311"/>
                </a:solidFill>
                <a:uFillTx/>
                <a:latin typeface="Arial"/>
              </a:rPr>
              <a:t>Anger</a:t>
            </a: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 plays a significant part in the psychological adjustments of childre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ffects on Children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(cont'd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196640"/>
            <a:ext cx="73850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Children of divorce tend to be "underachievers" in educational and occupational pursuits and may have more issues during the teen yea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37123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CA" sz="2400" spc="-1" strike="noStrike">
                <a:solidFill>
                  <a:srgbClr val="2f1311"/>
                </a:solidFill>
                <a:latin typeface="Arial"/>
              </a:rPr>
              <a:t>Wallerstein's longitudinal study of 131 children over 10 years, showed that girls seemed far better adjusted than boys in the early post-divorce year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ffects on Children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(cont'd)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504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2f1311"/>
                </a:solidFill>
                <a:latin typeface="Arial"/>
              </a:rPr>
              <a:t>Young men are PRONE t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SzPct val="111486"/>
              <a:buBlip>
                <a:blip r:embed="rId2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Clashes with the law, school officials, teacher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SzPct val="111486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Parents report "uncontrollable behaviours" and disciplining has little or no effec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SzPct val="111486"/>
              <a:buBlip>
                <a:blip r:embed="rId4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Aggressive behaviour tendenci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SzPct val="111486"/>
              <a:buBlip>
                <a:blip r:embed="rId5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Drop out of school or pronounced fail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SzPct val="111486"/>
              <a:buBlip>
                <a:blip r:embed="rId6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Disown" family and turn to friends/gang as family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SzPct val="111486"/>
              <a:buBlip>
                <a:blip r:embed="rId7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400" spc="-1" strike="noStrike">
                <a:solidFill>
                  <a:srgbClr val="2f1311"/>
                </a:solidFill>
                <a:latin typeface="Arial"/>
              </a:rPr>
              <a:t>Develop apathy and inability to see hopeful futur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5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ffects of Divorce by Ag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Age 2-5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: Fear of abandonment, sleep disturbances; parents should explain that parent will retur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Age 5-9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: Displaced, grief, school difficulties; parents should discuss fears and keep contact with both parent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Age 9-12: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May act out, conflict with parents; parents should show patience and lov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799"/>
              </a:spcBef>
              <a:buSzPct val="137123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2f1311"/>
                </a:solidFill>
                <a:uFillTx/>
                <a:latin typeface="Arial"/>
              </a:rPr>
              <a:t>Age 13+: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Relationship failure, independence, more likely to be promiscuous; parents should communicate and encourage positive relationship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el District School Board</dc:creator>
  <dc:description/>
  <dc:language>en-US</dc:language>
  <cp:lastModifiedBy>Customer</cp:lastModifiedBy>
  <dcterms:modified xsi:type="dcterms:W3CDTF">2011-01-12T16:11:08Z</dcterms:modified>
  <cp:revision>10</cp:revision>
  <dc:subject/>
  <dc:title>An Overview of Divorce in Canada</dc:title>
</cp:coreProperties>
</file>